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943E05-84E9-4516-BA36-36ADF6B39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BEEE88-CD1E-4762-A450-A35574D59A6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53C4CE-F4A0-431C-8ECC-6450CC692B9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64F6B0-12B6-4C8C-A7B9-11020B9A922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E761F4-5DF4-4620-AC6C-E1454CA92B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550FA0-2AB5-450E-BF3B-0E5C467F958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54A834-164B-4A64-8429-D15B66131E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1603EA-1B8D-4287-811C-F20A76BD4FE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419774-0222-4E1E-B67E-C8FD939DE34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AF6DD8-9A13-44D4-B560-BA5360F60C4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431360-D6D8-4FA6-839C-0BF4BFE0CB2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AD4905-A4AB-47A0-B037-4149962F205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367A14-77B6-4BB0-A18B-D0E05CBFD42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66A00A-E263-4A74-B359-B3C2B0E6928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88D2C4-156E-4C8D-A9F6-AF1627E0ACDD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387790-2AB0-4D55-87AE-6A59FEA336D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38DBA1-E0F4-4F41-8DEA-D5CE3DFB55F6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2B29FD-0BAF-4197-AAE0-EA7BAEDB14D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9E75EC-D5A2-4D7D-94DE-1A348AB01BA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6A1DF8-A9A6-4E16-BAD1-51FF9B2E586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ACF919-F462-4F1D-BE1B-A29D21DDAD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9E70FC-D3F4-4784-90A8-5716081E7F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563C02-E638-4C6F-98D9-6FED8B95750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2CD607-F065-4916-9697-122D18E0DE1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5B6D34-0076-4E5C-B45D-8A09DCD7B16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6C3-50E8-476B-A6B7-ACF0DF81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F65-27ED-41BE-8E53-8FE788C2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BDD-1606-48DF-A161-246F0F87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739-F365-4A23-A2BF-4F89E09F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BE54-F3A4-4BB6-8AD6-3648B189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AD46-ACCF-46BF-81B3-783BFD0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F0FE-5584-4350-8000-DE1B440D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1CA-61CA-4A05-818A-FE368EB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E25-FF14-4AC6-AB4A-9450DDE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777-12AD-4620-85FC-5226FCC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539E-DA89-4CDF-B129-9D22730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2D8-B22D-4144-881C-21054E5D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3ED-08A5-4D35-8B80-9EA65A6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5531-48D6-4D1B-9AE0-6CF2EE9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371-5672-432A-AFE7-528F090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3271-19A5-4AB0-8612-2990DAE5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E27-E51E-460D-84D5-6AB04585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FC1-31A5-48E3-99E1-30B90DC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693-36DB-4BFF-9E46-6C021C41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7FF-C68E-4E2B-B0B5-21877D00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974-CD1B-423A-AE1D-5DEC00BE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95D-0CF2-446F-AC46-FA4854B4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33F-A510-469F-ABA4-5390616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26C-E6B9-4A3D-883F-6A99C4C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593C-5FCB-45CD-818C-32B5D4F4A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90A-C151-4020-83D5-4521883912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7EC-7C43-4F98-8428-B92128C68D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hoo! Presentation,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en.wikipedia.org/wiki/Central_limit_theore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2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275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291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6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297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34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42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8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49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2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53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54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5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6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7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8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59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60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44"/>
              <p:cNvCxnSpPr>
                <a:stCxn id="160" idx="3"/>
                <a:endCxn id="161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AutoShape 45"/>
              <p:cNvCxnSpPr>
                <a:stCxn id="161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7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47"/>
              <p:cNvCxnSpPr>
                <a:stCxn id="167" idx="3"/>
                <a:endCxn id="162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AutoShape 48"/>
              <p:cNvCxnSpPr>
                <a:stCxn id="162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AutoShape 49"/>
              <p:cNvCxnSpPr>
                <a:stCxn id="163" idx="3"/>
                <a:endCxn id="164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71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72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4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5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76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77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8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312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PGothic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MS PGothic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17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320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1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MS PGothic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MS PGothic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6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words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Key step in many IR task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the token in Invert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e dictionary terms in bag-of-wor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tc. 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Supervised and unsupervis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Keyword extra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185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93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9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200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MS PGothic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3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204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205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6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7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8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09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210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211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6" name="AutoShape 44"/>
              <p:cNvCxnSpPr>
                <a:stCxn id="211" idx="3"/>
                <a:endCxn id="212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45"/>
              <p:cNvCxnSpPr>
                <a:stCxn id="212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8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MS PGothic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219" name="AutoShape 47"/>
              <p:cNvCxnSpPr>
                <a:stCxn id="218" idx="3"/>
                <a:endCxn id="213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AutoShape 48"/>
              <p:cNvCxnSpPr>
                <a:stCxn id="213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1" name="AutoShape 49"/>
              <p:cNvCxnSpPr>
                <a:stCxn id="214" idx="3"/>
                <a:endCxn id="215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2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6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227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228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MS PGothic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236" name="Ovale 4"/>
          <p:cNvSpPr/>
          <p:nvPr/>
        </p:nvSpPr>
        <p:spPr>
          <a:xfrm>
            <a:off x="5435640" y="6315120"/>
            <a:ext cx="68256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Ovale 54"/>
          <p:cNvSpPr/>
          <p:nvPr/>
        </p:nvSpPr>
        <p:spPr>
          <a:xfrm>
            <a:off x="1620720" y="2286000"/>
            <a:ext cx="2519640" cy="461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tatistical extra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Collocation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wo or more words that correspond to some conventional way of say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Limited compositiona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aning cannot be fully inferred by its constitutent words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r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hite hair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substitu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substitute other words and keep same meaning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yellow win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Non modifiability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nnot add lexical material [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an idiom would be chang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Just frequency + PoS tagg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4" name="Immagine 2" descr=""/>
          <p:cNvPicPr/>
          <p:nvPr/>
        </p:nvPicPr>
        <p:blipFill>
          <a:blip r:embed="rId1"/>
          <a:stretch/>
        </p:blipFill>
        <p:spPr>
          <a:xfrm>
            <a:off x="147600" y="1989000"/>
            <a:ext cx="3341880" cy="3436920"/>
          </a:xfrm>
          <a:prstGeom prst="rect">
            <a:avLst/>
          </a:prstGeom>
          <a:ln w="0">
            <a:noFill/>
          </a:ln>
        </p:spPr>
      </p:pic>
      <p:pic>
        <p:nvPicPr>
          <p:cNvPr id="335" name="Immagine 3" descr=""/>
          <p:cNvPicPr/>
          <p:nvPr/>
        </p:nvPicPr>
        <p:blipFill>
          <a:blip r:embed="rId2"/>
          <a:stretch/>
        </p:blipFill>
        <p:spPr>
          <a:xfrm>
            <a:off x="3868560" y="1557360"/>
            <a:ext cx="4591080" cy="2341440"/>
          </a:xfrm>
          <a:prstGeom prst="rect">
            <a:avLst/>
          </a:prstGeom>
          <a:ln w="0">
            <a:noFill/>
          </a:ln>
        </p:spPr>
      </p:pic>
      <p:pic>
        <p:nvPicPr>
          <p:cNvPr id="336" name="Immagine 5" descr=""/>
          <p:cNvPicPr/>
          <p:nvPr/>
        </p:nvPicPr>
        <p:blipFill>
          <a:blip r:embed="rId3"/>
          <a:stretch/>
        </p:blipFill>
        <p:spPr>
          <a:xfrm>
            <a:off x="3833640" y="4025880"/>
            <a:ext cx="469908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ean and Vari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1"/>
          <p:cNvSpPr/>
          <p:nvPr/>
        </p:nvSpPr>
        <p:spPr>
          <a:xfrm>
            <a:off x="533520" y="184464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Often the words are not adjacent to each other (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eed flexibil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9" name="Immagin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79960" cy="173988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8"/>
          <p:cNvSpPr/>
          <p:nvPr/>
        </p:nvSpPr>
        <p:spPr>
          <a:xfrm>
            <a:off x="533520" y="4869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Compute the mean and the variance of the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dista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by restricting within a window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Connettore 1 2"/>
          <p:cNvSpPr/>
          <p:nvPr/>
        </p:nvSpPr>
        <p:spPr>
          <a:xfrm>
            <a:off x="3059280" y="292428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Connettore 1 8"/>
          <p:cNvSpPr/>
          <p:nvPr/>
        </p:nvSpPr>
        <p:spPr>
          <a:xfrm>
            <a:off x="4716360" y="2924280"/>
            <a:ext cx="43200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Connettore 1 10"/>
          <p:cNvSpPr/>
          <p:nvPr/>
        </p:nvSpPr>
        <p:spPr>
          <a:xfrm>
            <a:off x="3132000" y="335772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Connettore 1 11"/>
          <p:cNvSpPr/>
          <p:nvPr/>
        </p:nvSpPr>
        <p:spPr>
          <a:xfrm>
            <a:off x="4788000" y="335772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Connettore 1 12"/>
          <p:cNvSpPr/>
          <p:nvPr/>
        </p:nvSpPr>
        <p:spPr>
          <a:xfrm>
            <a:off x="3924360" y="3789360"/>
            <a:ext cx="863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Connettore 1 13"/>
          <p:cNvSpPr/>
          <p:nvPr/>
        </p:nvSpPr>
        <p:spPr>
          <a:xfrm>
            <a:off x="6516720" y="378936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Connettore 1 14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Connettore 1 15"/>
          <p:cNvSpPr/>
          <p:nvPr/>
        </p:nvSpPr>
        <p:spPr>
          <a:xfrm>
            <a:off x="6280200" y="4226040"/>
            <a:ext cx="431640" cy="0"/>
          </a:xfrm>
          <a:prstGeom prst="line">
            <a:avLst/>
          </a:prstGeom>
          <a:ln w="572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Immagine 3" descr=""/>
          <p:cNvPicPr/>
          <p:nvPr/>
        </p:nvPicPr>
        <p:blipFill>
          <a:blip r:embed="rId1"/>
          <a:srcRect l="0" t="1455" r="0" b="48580"/>
          <a:stretch/>
        </p:blipFill>
        <p:spPr>
          <a:xfrm>
            <a:off x="1258920" y="1700280"/>
            <a:ext cx="7083360" cy="2592360"/>
          </a:xfrm>
          <a:prstGeom prst="rect">
            <a:avLst/>
          </a:prstGeom>
          <a:ln w="0">
            <a:noFill/>
          </a:ln>
        </p:spPr>
      </p:pic>
      <p:pic>
        <p:nvPicPr>
          <p:cNvPr id="351" name="Immagine 3" descr=""/>
          <p:cNvPicPr/>
          <p:nvPr/>
        </p:nvPicPr>
        <p:blipFill>
          <a:blip r:embed="rId2"/>
          <a:srcRect l="0" t="1455" r="0" b="0"/>
          <a:stretch/>
        </p:blipFill>
        <p:spPr>
          <a:xfrm>
            <a:off x="1258920" y="1700280"/>
            <a:ext cx="7083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ample of distance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Immagine 1" descr=""/>
          <p:cNvPicPr/>
          <p:nvPr/>
        </p:nvPicPr>
        <p:blipFill>
          <a:blip r:embed="rId1"/>
          <a:stretch/>
        </p:blipFill>
        <p:spPr>
          <a:xfrm>
            <a:off x="1809720" y="1628640"/>
            <a:ext cx="6507360" cy="3926160"/>
          </a:xfrm>
          <a:prstGeom prst="rect">
            <a:avLst/>
          </a:prstGeom>
          <a:ln w="0">
            <a:noFill/>
          </a:ln>
        </p:spPr>
      </p:pic>
      <p:sp>
        <p:nvSpPr>
          <p:cNvPr id="354" name="Rettangolo 4"/>
          <p:cNvSpPr/>
          <p:nvPr/>
        </p:nvSpPr>
        <p:spPr>
          <a:xfrm>
            <a:off x="684360" y="5661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s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the collocation is not interes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d &gt; 0 and s very small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interesting (new) phra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arentesi graffa aperta 3"/>
          <p:cNvSpPr/>
          <p:nvPr/>
        </p:nvSpPr>
        <p:spPr>
          <a:xfrm>
            <a:off x="1522440" y="3349800"/>
            <a:ext cx="601560" cy="1015920"/>
          </a:xfrm>
          <a:custGeom>
            <a:avLst/>
            <a:gdLst>
              <a:gd name="textAreaLeft" fmla="*/ 384480 w 601560"/>
              <a:gd name="textAreaRight" fmla="*/ 601920 w 601560"/>
              <a:gd name="textAreaTop" fmla="*/ 15480 h 1015920"/>
              <a:gd name="textAreaBottom" fmla="*/ 10004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4"/>
                </a:cubicBezTo>
                <a:lnTo>
                  <a:pt x="10800" y="10102"/>
                </a:lnTo>
                <a:cubicBezTo>
                  <a:pt x="10800" y="10634"/>
                  <a:pt x="5400" y="11166"/>
                  <a:pt x="0" y="11166"/>
                </a:cubicBezTo>
                <a:cubicBezTo>
                  <a:pt x="5400" y="11166"/>
                  <a:pt x="10800" y="11698"/>
                  <a:pt x="10800" y="12230"/>
                </a:cubicBezTo>
                <a:lnTo>
                  <a:pt x="10800" y="20536"/>
                </a:lnTo>
                <a:cubicBezTo>
                  <a:pt x="10800" y="2106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68040" y="3284640"/>
            <a:ext cx="13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High s n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Lucida Sans"/>
                <a:ea typeface="MS PGothic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Rettangolo 4"/>
          <p:cNvSpPr/>
          <p:nvPr/>
        </p:nvSpPr>
        <p:spPr>
          <a:xfrm>
            <a:off x="611280" y="59072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f it is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improbably larg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, then reject the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null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hyp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9" name="Immagine 1" descr=""/>
          <p:cNvPicPr/>
          <p:nvPr/>
        </p:nvPicPr>
        <p:blipFill>
          <a:blip r:embed="rId1"/>
          <a:stretch/>
        </p:blipFill>
        <p:spPr>
          <a:xfrm>
            <a:off x="4254480" y="1844640"/>
            <a:ext cx="4803840" cy="3664080"/>
          </a:xfrm>
          <a:prstGeom prst="rect">
            <a:avLst/>
          </a:prstGeom>
          <a:ln w="0">
            <a:noFill/>
          </a:ln>
        </p:spPr>
      </p:pic>
      <p:sp>
        <p:nvSpPr>
          <p:cNvPr id="360" name="Rettangolo 2"/>
          <p:cNvSpPr/>
          <p:nvPr/>
        </p:nvSpPr>
        <p:spPr>
          <a:xfrm>
            <a:off x="250920" y="2057400"/>
            <a:ext cx="388944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Test statistics that follow a chi-squared distribution arise from an assumption of independent normally distributed data, which is valid in many cases due to the 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Lucida Sans"/>
                <a:ea typeface="Arial"/>
                <a:hlinkClick r:id="rId2"/>
              </a:rPr>
              <a:t>central limit theorem</a:t>
            </a:r>
            <a:r>
              <a:rPr b="0" lang="it-IT" sz="2000" spc="-1" strike="noStrike">
                <a:solidFill>
                  <a:srgbClr val="222222"/>
                </a:solidFill>
                <a:latin typeface="Lucida Sans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 (</a:t>
            </a:r>
            <a:r>
              <a:rPr b="0" i="1" lang="it-IT" sz="3200" spc="-1" strike="noStrike">
                <a:solidFill>
                  <a:srgbClr val="ff0000"/>
                </a:solidFill>
                <a:latin typeface="Lucida Sans"/>
              </a:rPr>
              <a:t>bigrams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Rettangolo 4"/>
          <p:cNvSpPr/>
          <p:nvPr/>
        </p:nvSpPr>
        <p:spPr>
          <a:xfrm>
            <a:off x="533520" y="1587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t is good for few occurren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3" name="Immagine 2" descr=""/>
          <p:cNvPicPr/>
          <p:nvPr/>
        </p:nvPicPr>
        <p:blipFill>
          <a:blip r:embed="rId1"/>
          <a:stretch/>
        </p:blipFill>
        <p:spPr>
          <a:xfrm>
            <a:off x="501480" y="2379600"/>
            <a:ext cx="8318520" cy="3365640"/>
          </a:xfrm>
          <a:prstGeom prst="rect">
            <a:avLst/>
          </a:prstGeom>
          <a:ln w="0">
            <a:noFill/>
          </a:ln>
        </p:spPr>
      </p:pic>
      <p:sp>
        <p:nvSpPr>
          <p:cNvPr id="364" name="Rettangolo 3"/>
          <p:cNvSpPr/>
          <p:nvPr/>
        </p:nvSpPr>
        <p:spPr>
          <a:xfrm>
            <a:off x="0" y="60213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or an r * c table, there are (r - 1)(c - 1)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66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961920" y="1643040"/>
            <a:ext cx="7047000" cy="1692360"/>
          </a:xfrm>
          <a:prstGeom prst="rect">
            <a:avLst/>
          </a:prstGeom>
          <a:ln w="0">
            <a:noFill/>
          </a:ln>
        </p:spPr>
      </p:pic>
      <p:pic>
        <p:nvPicPr>
          <p:cNvPr id="367" name="Immagine 1" descr=""/>
          <p:cNvPicPr/>
          <p:nvPr/>
        </p:nvPicPr>
        <p:blipFill>
          <a:blip r:embed="rId2"/>
          <a:srcRect l="0" t="0" r="10430" b="0"/>
          <a:stretch/>
        </p:blipFill>
        <p:spPr>
          <a:xfrm>
            <a:off x="515880" y="4071960"/>
            <a:ext cx="3335400" cy="1104840"/>
          </a:xfrm>
          <a:prstGeom prst="rect">
            <a:avLst/>
          </a:prstGeom>
          <a:ln w="0">
            <a:noFill/>
          </a:ln>
        </p:spPr>
      </p:pic>
      <p:sp>
        <p:nvSpPr>
          <p:cNvPr id="368" name="Rettangolo 5"/>
          <p:cNvSpPr/>
          <p:nvPr/>
        </p:nvSpPr>
        <p:spPr>
          <a:xfrm>
            <a:off x="395280" y="32130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o estabish the significance of a collocation,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ttangolo 7"/>
          <p:cNvSpPr/>
          <p:nvPr/>
        </p:nvSpPr>
        <p:spPr>
          <a:xfrm>
            <a:off x="3929040" y="42339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here E_ij = N * freq(i) * freq(j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0" name="Gruppo 8"/>
          <p:cNvGrpSpPr/>
          <p:nvPr/>
        </p:nvGrpSpPr>
        <p:grpSpPr>
          <a:xfrm>
            <a:off x="77760" y="4711680"/>
            <a:ext cx="7710480" cy="1733400"/>
            <a:chOff x="77760" y="4711680"/>
            <a:chExt cx="7710480" cy="1733400"/>
          </a:xfrm>
        </p:grpSpPr>
        <p:pic>
          <p:nvPicPr>
            <p:cNvPr id="371" name="Immagine 3" descr=""/>
            <p:cNvPicPr/>
            <p:nvPr/>
          </p:nvPicPr>
          <p:blipFill>
            <a:blip r:embed="rId3"/>
            <a:srcRect l="3182" t="0" r="3688" b="0"/>
            <a:stretch/>
          </p:blipFill>
          <p:spPr>
            <a:xfrm>
              <a:off x="516240" y="5403600"/>
              <a:ext cx="72720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Freccia circolare a destra 6"/>
            <p:cNvSpPr/>
            <p:nvPr/>
          </p:nvSpPr>
          <p:spPr>
            <a:xfrm>
              <a:off x="77760" y="4711680"/>
              <a:ext cx="366480" cy="1563120"/>
            </a:xfrm>
            <a:custGeom>
              <a:avLst/>
              <a:gdLst>
                <a:gd name="textAreaLeft" fmla="*/ 48960 w 366480"/>
                <a:gd name="textAreaRight" fmla="*/ 317520 w 366480"/>
                <a:gd name="textAreaTop" fmla="*/ 307800 h 1563120"/>
                <a:gd name="textAreaBottom" fmla="*/ 1015920 h 156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15" stAng="-5400000" swAng="-5400000"/>
                  <a:lnTo>
                    <a:pt x="0" y="9781"/>
                  </a:lnTo>
                  <a:arcTo wR="21600" hR="8515" stAng="10800000" swAng="-3406484"/>
                  <a:lnTo>
                    <a:pt x="16200" y="21330"/>
                  </a:lnTo>
                  <a:lnTo>
                    <a:pt x="21600" y="17662"/>
                  </a:lnTo>
                  <a:lnTo>
                    <a:pt x="16200" y="13454"/>
                  </a:lnTo>
                  <a:lnTo>
                    <a:pt x="16200" y="16759"/>
                  </a:lnTo>
                  <a:arcTo wR="21600" hR="8515" stAng="7393516" swAng="3305489"/>
                  <a:lnTo>
                    <a:pt x="60" y="9147"/>
                  </a:lnTo>
                  <a:arcTo wR="21600" hR="8515" stAng="-10699004" swAng="5299004"/>
                  <a:close/>
                </a:path>
                <a:path fill="darkenLess" w="21600" h="21600">
                  <a:moveTo>
                    <a:pt x="21600" y="0"/>
                  </a:moveTo>
                  <a:arcTo wR="21600" hR="8515" stAng="-5400000" swAng="-5400000"/>
                  <a:lnTo>
                    <a:pt x="0" y="8515"/>
                  </a:lnTo>
                  <a:arcTo wR="21600" hR="8515" stAng="10800000" swAng="-100996"/>
                  <a:lnTo>
                    <a:pt x="60" y="9147"/>
                  </a:lnTo>
                  <a:arcTo wR="21600" hR="8515" stAng="-10699004" swAng="5299004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3" name="Rettangolo 9"/>
          <p:cNvSpPr/>
          <p:nvPr/>
        </p:nvSpPr>
        <p:spPr>
          <a:xfrm>
            <a:off x="7786080" y="5722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Pearson’s chi-square tes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5" name="Immagine 2" descr=""/>
          <p:cNvPicPr/>
          <p:nvPr/>
        </p:nvPicPr>
        <p:blipFill>
          <a:blip r:embed="rId1"/>
          <a:srcRect l="11338" t="7969" r="8279" b="44379"/>
          <a:stretch/>
        </p:blipFill>
        <p:spPr>
          <a:xfrm>
            <a:off x="582480" y="1557360"/>
            <a:ext cx="4926240" cy="1182600"/>
          </a:xfrm>
          <a:prstGeom prst="rect">
            <a:avLst/>
          </a:prstGeom>
          <a:ln w="0">
            <a:noFill/>
          </a:ln>
        </p:spPr>
      </p:pic>
      <p:sp>
        <p:nvSpPr>
          <p:cNvPr id="376" name="Rettangolo 9"/>
          <p:cNvSpPr/>
          <p:nvPr/>
        </p:nvSpPr>
        <p:spPr>
          <a:xfrm>
            <a:off x="5613120" y="1846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Symbol"/>
              </a:rPr>
              <a:t>Chi-square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 1.55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Rettangolo 11"/>
          <p:cNvSpPr/>
          <p:nvPr/>
        </p:nvSpPr>
        <p:spPr>
          <a:xfrm>
            <a:off x="503280" y="59832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The value in this tables is 2.71 so our X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  <a:ea typeface="MS PGothic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is smaller (=1.55), and hence th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null hypothesi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is plausible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 this is not a good pai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Immagine 1" descr=""/>
          <p:cNvPicPr/>
          <p:nvPr/>
        </p:nvPicPr>
        <p:blipFill>
          <a:blip r:embed="rId2"/>
          <a:stretch/>
        </p:blipFill>
        <p:spPr>
          <a:xfrm>
            <a:off x="719280" y="3762360"/>
            <a:ext cx="6840360" cy="1952640"/>
          </a:xfrm>
          <a:prstGeom prst="rect">
            <a:avLst/>
          </a:prstGeom>
          <a:ln w="0">
            <a:noFill/>
          </a:ln>
        </p:spPr>
      </p:pic>
      <p:sp>
        <p:nvSpPr>
          <p:cNvPr id="379" name="Rettangolo 2"/>
          <p:cNvSpPr/>
          <p:nvPr/>
        </p:nvSpPr>
        <p:spPr>
          <a:xfrm>
            <a:off x="3708360" y="3770280"/>
            <a:ext cx="647640" cy="1952640"/>
          </a:xfrm>
          <a:prstGeom prst="rect">
            <a:avLst/>
          </a:prstGeom>
          <a:noFill/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ttangolo 3"/>
          <p:cNvSpPr/>
          <p:nvPr/>
        </p:nvSpPr>
        <p:spPr>
          <a:xfrm>
            <a:off x="503280" y="27813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254"/>
                </a:solidFill>
                <a:latin typeface="Lucida Sans"/>
                <a:ea typeface="MS PGothic"/>
              </a:rPr>
              <a:t>There are (r - 1)(c - 1) = 1* 1 = 1 degrees of free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Rettangolo 14"/>
          <p:cNvSpPr/>
          <p:nvPr/>
        </p:nvSpPr>
        <p:spPr>
          <a:xfrm>
            <a:off x="719280" y="4194000"/>
            <a:ext cx="6840360" cy="290520"/>
          </a:xfrm>
          <a:prstGeom prst="rect">
            <a:avLst/>
          </a:prstGeom>
          <a:noFill/>
          <a:ln w="57240">
            <a:solidFill>
              <a:srgbClr val="0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ttangolo 3"/>
          <p:cNvSpPr/>
          <p:nvPr/>
        </p:nvSpPr>
        <p:spPr>
          <a:xfrm>
            <a:off x="522360" y="327492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2673"/>
                </a:solidFill>
                <a:latin typeface="Lucida Sans"/>
                <a:ea typeface="MS PGothic"/>
              </a:rPr>
              <a:t>Let us consider a P-value = 0.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Rapid Automatic Keyword Extr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ttangolo 5"/>
          <p:cNvSpPr/>
          <p:nvPr/>
        </p:nvSpPr>
        <p:spPr>
          <a:xfrm>
            <a:off x="503280" y="1700280"/>
            <a:ext cx="82152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Key properti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Works on single (not much long)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Easily applicable to new domai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Unsupervis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ttangolo 11"/>
          <p:cNvSpPr/>
          <p:nvPr/>
        </p:nvSpPr>
        <p:spPr>
          <a:xfrm>
            <a:off x="25092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  <a:ea typeface="MS PGothic"/>
              </a:rPr>
              <a:t>Key observation: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keywords frequently contain multiple words but rarely contain punctuation or stop word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MS PGothic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input paramete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word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set of phrase delimiters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 list of stop words (or stoplist)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: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cument is split into an array of words by the specified word delimiter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is array is split into sequences of contiguous words at phrase delimiters and then stop 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ords within a sequence are considered a candidate keyword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7200" y="479736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90" name="Immagin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31080" cy="3311640"/>
          </a:xfrm>
          <a:prstGeom prst="rect">
            <a:avLst/>
          </a:prstGeom>
          <a:ln w="0">
            <a:noFill/>
          </a:ln>
        </p:spPr>
      </p:pic>
      <p:pic>
        <p:nvPicPr>
          <p:cNvPr id="391" name="Immagine 4" descr=""/>
          <p:cNvPicPr/>
          <p:nvPr/>
        </p:nvPicPr>
        <p:blipFill>
          <a:blip r:embed="rId2"/>
          <a:stretch/>
        </p:blipFill>
        <p:spPr>
          <a:xfrm>
            <a:off x="250920" y="5221440"/>
            <a:ext cx="8893080" cy="1663560"/>
          </a:xfrm>
          <a:prstGeom prst="rect">
            <a:avLst/>
          </a:prstGeom>
          <a:ln w="0">
            <a:noFill/>
          </a:ln>
        </p:spPr>
      </p:pic>
      <p:grpSp>
        <p:nvGrpSpPr>
          <p:cNvPr id="392" name="Gruppo 14"/>
          <p:cNvGrpSpPr/>
          <p:nvPr/>
        </p:nvGrpSpPr>
        <p:grpSpPr>
          <a:xfrm>
            <a:off x="512640" y="5661000"/>
            <a:ext cx="7659720" cy="746280"/>
            <a:chOff x="512640" y="5661000"/>
            <a:chExt cx="7659720" cy="746280"/>
          </a:xfrm>
        </p:grpSpPr>
        <p:sp>
          <p:nvSpPr>
            <p:cNvPr id="393" name="Connettore 1 2"/>
            <p:cNvSpPr/>
            <p:nvPr/>
          </p:nvSpPr>
          <p:spPr>
            <a:xfrm>
              <a:off x="2843640" y="5661000"/>
              <a:ext cx="15840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Connettore 1 7"/>
            <p:cNvSpPr/>
            <p:nvPr/>
          </p:nvSpPr>
          <p:spPr>
            <a:xfrm flipV="1">
              <a:off x="4716000" y="5661000"/>
              <a:ext cx="19443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Connettore 1 9"/>
            <p:cNvSpPr/>
            <p:nvPr/>
          </p:nvSpPr>
          <p:spPr>
            <a:xfrm flipV="1">
              <a:off x="2678040" y="5877360"/>
              <a:ext cx="2685960" cy="223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Connettore 1 11"/>
            <p:cNvSpPr/>
            <p:nvPr/>
          </p:nvSpPr>
          <p:spPr>
            <a:xfrm flipV="1">
              <a:off x="5616000" y="5877000"/>
              <a:ext cx="1476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Connettore 1 13"/>
            <p:cNvSpPr/>
            <p:nvPr/>
          </p:nvSpPr>
          <p:spPr>
            <a:xfrm flipV="1">
              <a:off x="7380360" y="5899680"/>
              <a:ext cx="792000" cy="1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Connettore 1 15"/>
            <p:cNvSpPr/>
            <p:nvPr/>
          </p:nvSpPr>
          <p:spPr>
            <a:xfrm flipV="1">
              <a:off x="1763280" y="6142680"/>
              <a:ext cx="12240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Connettore 1 19"/>
            <p:cNvSpPr/>
            <p:nvPr/>
          </p:nvSpPr>
          <p:spPr>
            <a:xfrm flipV="1">
              <a:off x="512640" y="6396480"/>
              <a:ext cx="2165400" cy="1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0" name="Connettore 1 13"/>
          <p:cNvSpPr/>
          <p:nvPr/>
        </p:nvSpPr>
        <p:spPr>
          <a:xfrm flipV="1">
            <a:off x="471600" y="6164280"/>
            <a:ext cx="1004760" cy="144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ute the table of co-occurrenc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nd few metrics: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freq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total frequency on diagonal,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deg(w)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um over 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3" name="Immagine 3" descr=""/>
          <p:cNvPicPr/>
          <p:nvPr/>
        </p:nvPicPr>
        <p:blipFill>
          <a:blip r:embed="rId1"/>
          <a:srcRect l="5619" t="5131" r="0" b="33979"/>
          <a:stretch/>
        </p:blipFill>
        <p:spPr>
          <a:xfrm>
            <a:off x="127080" y="3213000"/>
            <a:ext cx="8851680" cy="2016360"/>
          </a:xfrm>
          <a:prstGeom prst="rect">
            <a:avLst/>
          </a:prstGeom>
          <a:ln w="0">
            <a:noFill/>
          </a:ln>
        </p:spPr>
      </p:pic>
      <p:pic>
        <p:nvPicPr>
          <p:cNvPr id="404" name="Immagine 4" descr=""/>
          <p:cNvPicPr/>
          <p:nvPr/>
        </p:nvPicPr>
        <p:blipFill>
          <a:blip r:embed="rId2"/>
          <a:srcRect l="0" t="5690" r="0" b="0"/>
          <a:stretch/>
        </p:blipFill>
        <p:spPr>
          <a:xfrm>
            <a:off x="971640" y="5229360"/>
            <a:ext cx="7530840" cy="162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55736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Step #2: Scoring candidate keywor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inal score is the sum of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deg(w)/freq(w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for the constituting words w of a key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07" name="Immagine 4" descr=""/>
          <p:cNvPicPr/>
          <p:nvPr/>
        </p:nvPicPr>
        <p:blipFill>
          <a:blip r:embed="rId1"/>
          <a:srcRect l="0" t="5690" r="0" b="0"/>
          <a:stretch/>
        </p:blipFill>
        <p:spPr>
          <a:xfrm>
            <a:off x="804960" y="3035160"/>
            <a:ext cx="7530840" cy="16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08" name="Immagine 5" descr=""/>
          <p:cNvPicPr/>
          <p:nvPr/>
        </p:nvPicPr>
        <p:blipFill>
          <a:blip r:embed="rId2"/>
          <a:stretch/>
        </p:blipFill>
        <p:spPr>
          <a:xfrm>
            <a:off x="3240" y="4941720"/>
            <a:ext cx="9029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KE pipel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Segnaposto contenuto 2"/>
          <p:cNvSpPr/>
          <p:nvPr/>
        </p:nvSpPr>
        <p:spPr>
          <a:xfrm>
            <a:off x="539640" y="1700280"/>
            <a:ext cx="80629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MS PGothic"/>
              </a:rPr>
              <a:t>Step #3: Adjoin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identifies keywords that contain interior stop words such as </a:t>
            </a:r>
            <a:r>
              <a:rPr b="0" i="1" lang="it-IT" sz="2600" spc="-1" strike="noStrike">
                <a:solidFill>
                  <a:srgbClr val="000000"/>
                </a:solidFill>
                <a:latin typeface="Lucida Sans"/>
                <a:ea typeface="MS PGothic"/>
              </a:rPr>
              <a:t>axis of evil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Looks for pairs of keywords that adjoin one another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at least twice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in the same document and in the same ord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The score for the new keyword is the </a:t>
            </a:r>
            <a:r>
              <a:rPr b="1" i="1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sum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MS PGothic"/>
              </a:rPr>
              <a:t> of its member keyword score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Segnaposto contenuto 2"/>
          <p:cNvSpPr/>
          <p:nvPr/>
        </p:nvSpPr>
        <p:spPr>
          <a:xfrm>
            <a:off x="547560" y="5661000"/>
            <a:ext cx="806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  <a:ea typeface="Arial"/>
              </a:rPr>
              <a:t>Step #4: Selecting keywords -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Arial"/>
              </a:rPr>
              <a:t>the top one-third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3" name="Immagine 3" descr=""/>
          <p:cNvPicPr/>
          <p:nvPr/>
        </p:nvPicPr>
        <p:blipFill>
          <a:blip r:embed="rId1"/>
          <a:stretch/>
        </p:blipFill>
        <p:spPr>
          <a:xfrm>
            <a:off x="744480" y="1700280"/>
            <a:ext cx="7655040" cy="4465440"/>
          </a:xfrm>
          <a:prstGeom prst="rect">
            <a:avLst/>
          </a:prstGeom>
          <a:ln w="0">
            <a:noFill/>
          </a:ln>
        </p:spPr>
      </p:pic>
      <p:sp>
        <p:nvSpPr>
          <p:cNvPr id="414" name="Rettangolo 4"/>
          <p:cNvSpPr/>
          <p:nvPr/>
        </p:nvSpPr>
        <p:spPr>
          <a:xfrm>
            <a:off x="541440" y="6264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  <a:ea typeface="Arial"/>
              </a:rPr>
              <a:t>3 false positives and 1 false negative (but similar.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16" name="Immagine 3" descr=""/>
          <p:cNvPicPr/>
          <p:nvPr/>
        </p:nvPicPr>
        <p:blipFill>
          <a:blip r:embed="rId1"/>
          <a:stretch/>
        </p:blipFill>
        <p:spPr>
          <a:xfrm>
            <a:off x="533520" y="1908000"/>
            <a:ext cx="8076960" cy="3405240"/>
          </a:xfrm>
          <a:prstGeom prst="rect">
            <a:avLst/>
          </a:prstGeom>
          <a:ln w="0">
            <a:noFill/>
          </a:ln>
        </p:spPr>
      </p:pic>
      <p:sp>
        <p:nvSpPr>
          <p:cNvPr id="417" name="Rettangolo 4"/>
          <p:cNvSpPr/>
          <p:nvPr/>
        </p:nvSpPr>
        <p:spPr>
          <a:xfrm>
            <a:off x="708120" y="5589720"/>
            <a:ext cx="78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Tutorial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MS PGothic"/>
              </a:rPr>
              <a:t>www.airpair.com/nlp/keyword-extraction-tuto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  <a:ea typeface="MS PGothic"/>
              </a:rPr>
              <a:t>Python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MS PGothic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  <a:ea typeface="MS PGothic"/>
              </a:rPr>
              <a:t>github.com/zelandiya/RAKE-tuto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8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ttangolo arrotondato 5"/>
          <p:cNvSpPr/>
          <p:nvPr/>
        </p:nvSpPr>
        <p:spPr>
          <a:xfrm>
            <a:off x="5940360" y="2349360"/>
            <a:ext cx="1008000" cy="35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5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56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6"/>
          <p:cNvSpPr/>
          <p:nvPr/>
        </p:nvSpPr>
        <p:spPr>
          <a:xfrm>
            <a:off x="4037040" y="1768320"/>
            <a:ext cx="649440" cy="436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10-15T20:00:32Z</dcterms:modified>
  <cp:revision>1212</cp:revision>
  <dc:subject/>
  <dc:title>Web Algorithmics</dc:title>
</cp:coreProperties>
</file>